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361-6E32-4889-8BD4-1496F7D6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CF6-7824-4D72-B0D8-085E553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B6D-7B11-4CDA-BF2C-528B4E34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EAB-9B00-49D5-B848-40C6688F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CCA-C5BA-485E-8C1D-9BB4439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BDC-2753-44CA-9FD1-331CCA8A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7BB-B932-4878-8074-0D97953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1FA-79AE-40B3-8877-7C97763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621-EE34-446E-BFD4-9528A3C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FD3-A76E-490F-B268-5110B95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344-59DC-464F-8771-145C686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FEF-506B-4B45-BDF2-4EFECC0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4B6-8ED9-421E-86B2-DAF2772D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57400" y="2286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219320" y="1676520"/>
            <a:ext cx="7238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Times New Roman"/>
              </a:rPr>
              <a:t>Radical Expression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676520" y="4572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each expres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990720" y="1447920"/>
          <a:ext cx="175248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17524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33520" y="3276720"/>
          <a:ext cx="3713040" cy="15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276720"/>
                    <a:ext cx="37130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1676520" y="4800600"/>
          <a:ext cx="137160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800600"/>
                    <a:ext cx="13716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9"/>
          <p:cNvGraphicFramePr/>
          <p:nvPr/>
        </p:nvGraphicFramePr>
        <p:xfrm>
          <a:off x="4379760" y="1523880"/>
          <a:ext cx="2316240" cy="13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79760" y="1523880"/>
                    <a:ext cx="231624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0"/>
          <p:cNvSpPr/>
          <p:nvPr/>
        </p:nvSpPr>
        <p:spPr>
          <a:xfrm>
            <a:off x="6705720" y="160020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alize the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4724280" y="3352680"/>
          <a:ext cx="1676520" cy="134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352680"/>
                    <a:ext cx="1676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724280" y="4724280"/>
          <a:ext cx="1289160" cy="13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724280"/>
                    <a:ext cx="1289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AutoShape 14"/>
          <p:cNvCxnSpPr/>
          <p:nvPr/>
        </p:nvCxnSpPr>
        <p:spPr>
          <a:xfrm flipV="1">
            <a:off x="3047760" y="2180880"/>
            <a:ext cx="1332360" cy="3248640"/>
          </a:xfrm>
          <a:prstGeom prst="curvedConnector5">
            <a:avLst>
              <a:gd name="adj1" fmla="val 49918"/>
              <a:gd name="adj2" fmla="val 49994"/>
              <a:gd name="adj3" fmla="val 4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5"/>
          <p:cNvSpPr/>
          <p:nvPr/>
        </p:nvSpPr>
        <p:spPr>
          <a:xfrm>
            <a:off x="6781680" y="5029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838080" y="762120"/>
          <a:ext cx="236232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2362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"/>
          <p:cNvGraphicFramePr/>
          <p:nvPr/>
        </p:nvGraphicFramePr>
        <p:xfrm>
          <a:off x="5791320" y="2286000"/>
          <a:ext cx="236196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286000"/>
                    <a:ext cx="2361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304920" y="2209680"/>
          <a:ext cx="3122640" cy="13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209680"/>
                    <a:ext cx="31226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3637080" y="2133720"/>
          <a:ext cx="1214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7080" y="2133720"/>
                    <a:ext cx="1214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"/>
          <p:cNvGraphicFramePr/>
          <p:nvPr/>
        </p:nvGraphicFramePr>
        <p:xfrm>
          <a:off x="1752480" y="3581280"/>
          <a:ext cx="720576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3581280"/>
                    <a:ext cx="7205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"/>
          <p:cNvGraphicFramePr/>
          <p:nvPr/>
        </p:nvGraphicFramePr>
        <p:xfrm>
          <a:off x="1752480" y="5105520"/>
          <a:ext cx="1752840" cy="12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5105520"/>
                    <a:ext cx="175284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14400" y="525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implify a radical by adding or subtracting you must have like ter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9072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erms are when the powers AND radicand are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3600" y="4591080"/>
          <a:ext cx="72327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4591080"/>
                    <a:ext cx="72327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0948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s an example that we will do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609480" y="1981080"/>
          <a:ext cx="48513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4851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533520" y="3048120"/>
          <a:ext cx="604512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8120"/>
                    <a:ext cx="6045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6"/>
          <p:cNvSpPr/>
          <p:nvPr/>
        </p:nvSpPr>
        <p:spPr>
          <a:xfrm>
            <a:off x="6781680" y="26668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write using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7"/>
          <p:cNvGraphicFramePr/>
          <p:nvPr/>
        </p:nvGraphicFramePr>
        <p:xfrm>
          <a:off x="533520" y="4114800"/>
          <a:ext cx="500364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114800"/>
                    <a:ext cx="5003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533520" y="4952880"/>
          <a:ext cx="407664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952880"/>
                    <a:ext cx="4076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533520" y="5791320"/>
          <a:ext cx="2743200" cy="65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791320"/>
                    <a:ext cx="27432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11"/>
          <p:cNvSpPr/>
          <p:nvPr/>
        </p:nvSpPr>
        <p:spPr>
          <a:xfrm>
            <a:off x="4800600" y="5791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3880" y="3049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e on you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1752480" y="2286000"/>
          <a:ext cx="53848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3848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133720" y="4419720"/>
          <a:ext cx="4025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4025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6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195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Group 8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199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Text Box 9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10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11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38080" y="60948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simplifying a radical expression, find the factors that are to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powers of the radicand and then use the Product Property of Radic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62120" y="3886200"/>
          <a:ext cx="19317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86200"/>
                    <a:ext cx="1931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3276720" y="4267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What is the Product Property of Radical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3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4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8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62120" y="22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are a  mixed set of problems to 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2133720" y="1447920"/>
          <a:ext cx="472896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728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43000" y="22860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to the mixed set of probl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2523960" y="1752480"/>
          <a:ext cx="4486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52480"/>
                    <a:ext cx="4486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95280" y="3808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838080" y="1455840"/>
            <a:ext cx="8305920" cy="4413960"/>
            <a:chOff x="838080" y="1455840"/>
            <a:chExt cx="8305920" cy="4413960"/>
          </a:xfrm>
        </p:grpSpPr>
        <p:graphicFrame>
          <p:nvGraphicFramePr>
            <p:cNvPr id="49" name="Object 4"/>
            <p:cNvGraphicFramePr/>
            <p:nvPr/>
          </p:nvGraphicFramePr>
          <p:xfrm>
            <a:off x="5715000" y="2971800"/>
            <a:ext cx="269244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2971800"/>
                      <a:ext cx="26924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" name="Group 11"/>
            <p:cNvGrpSpPr/>
            <p:nvPr/>
          </p:nvGrpSpPr>
          <p:grpSpPr>
            <a:xfrm>
              <a:off x="838080" y="1455840"/>
              <a:ext cx="8305920" cy="4413960"/>
              <a:chOff x="838080" y="1455840"/>
              <a:chExt cx="8305920" cy="4413960"/>
            </a:xfrm>
          </p:grpSpPr>
          <p:sp>
            <p:nvSpPr>
              <p:cNvPr id="52" name="Text Box 3"/>
              <p:cNvSpPr/>
              <p:nvPr/>
            </p:nvSpPr>
            <p:spPr>
              <a:xfrm>
                <a:off x="1600200" y="1455840"/>
                <a:ext cx="6705720" cy="22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For any real numbers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b,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and any integer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&gt;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,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. If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is even, then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6"/>
              <p:cNvSpPr/>
              <p:nvPr/>
            </p:nvSpPr>
            <p:spPr>
              <a:xfrm>
                <a:off x="838080" y="3589200"/>
                <a:ext cx="8305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When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re both nonnegative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1600200" y="5105520"/>
                <a:ext cx="7238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2. If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is odd, then 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5" name="Object 9"/>
            <p:cNvGraphicFramePr/>
            <p:nvPr/>
          </p:nvGraphicFramePr>
          <p:xfrm>
            <a:off x="5867280" y="5181480"/>
            <a:ext cx="274320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5181480"/>
                      <a:ext cx="274320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09480" y="304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do a few problem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762120" y="1523880"/>
          <a:ext cx="312408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312408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1204920" y="2666880"/>
          <a:ext cx="429588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920" y="2666880"/>
                    <a:ext cx="4295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"/>
          <p:cNvSpPr/>
          <p:nvPr/>
        </p:nvSpPr>
        <p:spPr>
          <a:xfrm>
            <a:off x="6172200" y="2514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int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719280" y="3886200"/>
          <a:ext cx="541944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" y="3886200"/>
                    <a:ext cx="5419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9"/>
          <p:cNvSpPr/>
          <p:nvPr/>
        </p:nvSpPr>
        <p:spPr>
          <a:xfrm>
            <a:off x="6553080" y="365760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10"/>
          <p:cNvGraphicFramePr/>
          <p:nvPr/>
        </p:nvGraphicFramePr>
        <p:xfrm>
          <a:off x="1828800" y="5057640"/>
          <a:ext cx="2438280" cy="79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5057640"/>
                    <a:ext cx="24382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006560" y="890640"/>
          <a:ext cx="492264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890640"/>
                    <a:ext cx="492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762120" y="2057400"/>
          <a:ext cx="38084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8084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609588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762120" y="3276720"/>
          <a:ext cx="437832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276720"/>
                    <a:ext cx="43783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7"/>
          <p:cNvSpPr/>
          <p:nvPr/>
        </p:nvSpPr>
        <p:spPr>
          <a:xfrm>
            <a:off x="6172200" y="32004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into cubes if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762120" y="5486400"/>
          <a:ext cx="4101840" cy="5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486400"/>
                    <a:ext cx="4101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9"/>
          <p:cNvGraphicFramePr/>
          <p:nvPr/>
        </p:nvGraphicFramePr>
        <p:xfrm>
          <a:off x="762120" y="4343400"/>
          <a:ext cx="4952880" cy="85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343400"/>
                    <a:ext cx="49528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0"/>
          <p:cNvSpPr/>
          <p:nvPr/>
        </p:nvSpPr>
        <p:spPr>
          <a:xfrm>
            <a:off x="5867280" y="42670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43000" y="5335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you try these 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362320" y="1523880"/>
          <a:ext cx="3782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3782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740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2286000" y="1447920"/>
          <a:ext cx="433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47920"/>
                    <a:ext cx="433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3808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 Property of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1143000" y="1447920"/>
            <a:ext cx="7696080" cy="3143160"/>
            <a:chOff x="1143000" y="1447920"/>
            <a:chExt cx="7696080" cy="3143160"/>
          </a:xfrm>
        </p:grpSpPr>
        <p:graphicFrame>
          <p:nvGraphicFramePr>
            <p:cNvPr id="89" name="Object 4"/>
            <p:cNvGraphicFramePr/>
            <p:nvPr/>
          </p:nvGraphicFramePr>
          <p:xfrm>
            <a:off x="7467480" y="160020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480" y="160020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Text Box 5"/>
            <p:cNvSpPr/>
            <p:nvPr/>
          </p:nvSpPr>
          <p:spPr>
            <a:xfrm>
              <a:off x="7924680" y="144792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0"/>
            <p:cNvGrpSpPr/>
            <p:nvPr/>
          </p:nvGrpSpPr>
          <p:grpSpPr>
            <a:xfrm>
              <a:off x="1143000" y="1447920"/>
              <a:ext cx="7696080" cy="3143160"/>
              <a:chOff x="1143000" y="1447920"/>
              <a:chExt cx="7696080" cy="3143160"/>
            </a:xfrm>
          </p:grpSpPr>
          <p:sp>
            <p:nvSpPr>
              <p:cNvPr id="93" name="Text Box 3"/>
              <p:cNvSpPr/>
              <p:nvPr/>
            </p:nvSpPr>
            <p:spPr>
              <a:xfrm>
                <a:off x="1143000" y="1447920"/>
                <a:ext cx="7696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or real numbers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1143000" y="2286000"/>
                <a:ext cx="5715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nd any integer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&gt;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1,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Object 7"/>
              <p:cNvGraphicFramePr/>
              <p:nvPr/>
            </p:nvGraphicFramePr>
            <p:xfrm>
              <a:off x="1219320" y="3352680"/>
              <a:ext cx="6476760" cy="1238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6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9320" y="3352680"/>
                        <a:ext cx="6476760" cy="123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97" name="Object 8"/>
          <p:cNvGraphicFramePr/>
          <p:nvPr/>
        </p:nvGraphicFramePr>
        <p:xfrm>
          <a:off x="1544760" y="4876920"/>
          <a:ext cx="3465360" cy="11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4760" y="4876920"/>
                    <a:ext cx="34653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9"/>
          <p:cNvSpPr/>
          <p:nvPr/>
        </p:nvSpPr>
        <p:spPr>
          <a:xfrm>
            <a:off x="685800" y="49528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62120" y="3049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, a radical expression is simplified wh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990720" y="2209680"/>
            <a:ext cx="8153280" cy="779760"/>
            <a:chOff x="990720" y="2209680"/>
            <a:chExt cx="8153280" cy="779760"/>
          </a:xfrm>
        </p:grpSpPr>
        <p:graphicFrame>
          <p:nvGraphicFramePr>
            <p:cNvPr id="102" name="Object 4"/>
            <p:cNvGraphicFramePr/>
            <p:nvPr/>
          </p:nvGraphicFramePr>
          <p:xfrm>
            <a:off x="990720" y="2209680"/>
            <a:ext cx="4222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20968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5"/>
            <p:cNvSpPr/>
            <p:nvPr/>
          </p:nvSpPr>
          <p:spPr>
            <a:xfrm>
              <a:off x="1600200" y="228600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 radicand contains no fractions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990720" y="3200400"/>
            <a:ext cx="7772400" cy="1312920"/>
            <a:chOff x="990720" y="3200400"/>
            <a:chExt cx="7772400" cy="1312920"/>
          </a:xfrm>
        </p:grpSpPr>
        <p:graphicFrame>
          <p:nvGraphicFramePr>
            <p:cNvPr id="106" name="Object 6"/>
            <p:cNvGraphicFramePr/>
            <p:nvPr/>
          </p:nvGraphicFramePr>
          <p:xfrm>
            <a:off x="990720" y="3200400"/>
            <a:ext cx="4222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20040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7"/>
            <p:cNvSpPr/>
            <p:nvPr/>
          </p:nvSpPr>
          <p:spPr>
            <a:xfrm>
              <a:off x="1676520" y="3200400"/>
              <a:ext cx="7086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No radicals appear in the denominator.(Rationalization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990720" y="4648320"/>
            <a:ext cx="7619760" cy="1922400"/>
            <a:chOff x="990720" y="4648320"/>
            <a:chExt cx="7619760" cy="1922400"/>
          </a:xfrm>
        </p:grpSpPr>
        <p:graphicFrame>
          <p:nvGraphicFramePr>
            <p:cNvPr id="110" name="Object 8"/>
            <p:cNvGraphicFramePr/>
            <p:nvPr/>
          </p:nvGraphicFramePr>
          <p:xfrm>
            <a:off x="990720" y="4663800"/>
            <a:ext cx="42228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466380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Text Box 9"/>
            <p:cNvSpPr/>
            <p:nvPr/>
          </p:nvSpPr>
          <p:spPr>
            <a:xfrm>
              <a:off x="1676520" y="4648320"/>
              <a:ext cx="6933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 radicand contains no factors that ar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 powers of an integer or polynomial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6:32:44Z</dcterms:created>
  <dc:creator>HCPS</dc:creator>
  <dc:description/>
  <dc:language>en-US</dc:language>
  <cp:lastModifiedBy>test</cp:lastModifiedBy>
  <dcterms:modified xsi:type="dcterms:W3CDTF">2014-11-06T14:14:41Z</dcterms:modified>
  <cp:revision>46</cp:revision>
  <dc:subject/>
  <dc:title>No Slide Title</dc:title>
</cp:coreProperties>
</file>